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AE8-BE40-461E-B58E-0BD9408B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52D-290D-40EA-B1AC-B4D4677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268-05A7-445F-881B-85C814E6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BF9-695E-44E1-A817-48B3C9B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C41C-5B20-49F1-AE62-96D00DEA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8506-F07C-4E4A-8080-F378790C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C80-E0F2-4A9A-A1C9-BD725C1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7CCD-A5FE-47EC-8A55-0140EBD0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AC56-C477-4E1E-AEC4-ABA10116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065-CE45-4B55-A25A-02B89749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D32C-5205-485C-A27D-E7A04F3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A18-1529-4096-B81F-9C166C4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B8E6-9539-477C-A4F2-B3B3F36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2FB4-5FA8-4354-A0E1-306B321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8FF7-007C-4C6F-B8A5-83EEE50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CAF-F2A1-4F70-9EBD-3F21DBF2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12E-4439-4C6A-8511-0CD8483C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ECA-8842-4C7C-A51A-F52BE356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BBE-C5AE-47B5-8717-280EFC2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EDF-8A26-4DCD-899E-99E3755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EBB-9A13-4C34-9EAC-DF8C5B03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CED-9B2A-4D5F-82D8-8E2B51E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504-0CC9-46D7-9F41-26FA43ED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9A7-191D-4777-9E51-051937D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398-8B07-46EB-854F-CA639BDDE3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E18-3634-4B9E-97CC-542B295708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204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7680"/>
                <a:gridCol w="1100160"/>
                <a:gridCol w="8938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>
              <a:hlinkClick r:id="rId2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Сколькими  способами можешь решить квадратное уравнение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Что называется квадратным уравнением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ие есть виды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 выбрать рациональный способ решения квадратного уравн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Вопросы из истории развития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Сколькими способами можешь решить квадратное урав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Пользователь</cp:lastModifiedBy>
  <dcterms:modified xsi:type="dcterms:W3CDTF">2010-06-04T10:19:42Z</dcterms:modified>
  <cp:revision>44</cp:revision>
  <dc:subject/>
  <dc:title>Квадратные уравнения</dc:title>
</cp:coreProperties>
</file>